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2DB1-535D-4572-8782-61B44995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021D-16F6-4C31-94E1-8EB8A91F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359-6717-4286-B26C-FC79CBE7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6515-2F9F-4E6E-9D4D-4499E7F2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7296-F0FA-4247-95AF-23C0C8E9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108-3A12-424B-B4C4-AA29BFD0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278C-C2CD-4D57-821F-E81EC359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5091-9022-4C24-BA62-FE6B80F3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89EA-3F2B-4FD1-B0FB-2C32131B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F09C-FADB-4C4C-B81A-95ED510C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4CF0-9B63-44E7-AD5B-31F8A3A7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6E4-5300-4830-8B44-6504747D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649F-D504-4D22-A3E8-203D1B7DD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2880" y="235080"/>
            <a:ext cx="8598240" cy="638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 Introduction to Amateur Satell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82640" y="31104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0312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43400" y="5241960"/>
            <a:ext cx="4605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y D. Welch, W0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ftwar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MSAT- North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6840" y="615960"/>
            <a:ext cx="7150320" cy="11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 algn="ctr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tellite Systems (Cont’d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idance and Control (Sun/Earth Sensor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ment Control (Mechanical Design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t Pip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sion-Unique Equipment (Transponder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PS, CC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ulsion (Kick Motor, Arc Je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72880" y="311040"/>
            <a:ext cx="859824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70960" y="1249200"/>
            <a:ext cx="59410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tellite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2133720"/>
            <a:ext cx="68580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/Analo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bital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ies Utiliz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ylo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72880" y="311040"/>
            <a:ext cx="859824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57200"/>
            <a:ext cx="593064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2840" y="1249200"/>
            <a:ext cx="8085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Wide Variety of Satellites Ex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1981080"/>
            <a:ext cx="6858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Satellites Currently in Op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Satellites in Orbit Undergoing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 Store and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M Repeater   2 Meter/435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B/CW  2 Meter/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B/CW  2 Meter/435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72880" y="311040"/>
            <a:ext cx="859824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3240" y="1066680"/>
            <a:ext cx="6927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SCAR Satellites In Ser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1676520"/>
            <a:ext cx="6858000" cy="49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tell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un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S-12/1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5 FEB 9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-15-144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-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 JUN 8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SB/CW Molynia Or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O-1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 MAR  8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0 bps AFSK AX-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-1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 JAN 9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S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-1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 JAN 9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 BBS/Digipe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-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7 FEB 9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SB/1200 bps P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O-2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 JUL 9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600 bps DFM B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-2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 SEP 9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600 bps DFM B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72880" y="311040"/>
            <a:ext cx="859824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6320" y="1066680"/>
            <a:ext cx="6932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SCAR Satellites In Ser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1752480"/>
            <a:ext cx="6858000" cy="38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tell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un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-2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 SEP 9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M Analog Satel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-2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 AUG 9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ker/Tran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-3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JUL 9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600 bps DFM B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-3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JUL 9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600 bps DFM B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-3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NOV 9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going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-3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 FEB 9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going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O-3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 APR 9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going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Amateur Satelli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nSAT (SO-35) Launched 23 FEB 99 @ 0230 PST from Vanderburg AFB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9600 bps digital store-and-forward BB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Resolution Imaging System (on S-Ban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M/FM Analo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oSat-12 (UO-36) Launched 21 APR 99 @0500 from Baikonur Cosmodro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ries a Number of Imaging Payloads (Up to 10 Meter Resolu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and Forward Communications VHF / UHF and an L/S Band Transponder / High Speed Digital Downlin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 band downlink can run at speeds up to 1Mb/s for downloading imaging data, and can also be used as an L/S band analog transpond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22860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72880" y="311040"/>
            <a:ext cx="859824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84280" y="1249200"/>
            <a:ext cx="4133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Satell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228600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USat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izona St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M Repeater/9600 B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unch September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3-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ateur Radio’s Largest Satel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TS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sinki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Tor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UIRT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UIRT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8760" y="235080"/>
            <a:ext cx="8750160" cy="646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72880" y="1249200"/>
            <a:ext cx="4728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bital Para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981080"/>
            <a:ext cx="6858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centricity-How Circular the Orbit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ogee:  Point Farthest from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gee:  Point Closest to Ear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ination Relative to the Eq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plerian Elements “Describe” the 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9600" y="311040"/>
            <a:ext cx="859788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22400" y="1249200"/>
            <a:ext cx="5037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tellite Catego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133720"/>
            <a:ext cx="685800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Y Bi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S Satellites: RS-11/12, RS-15, RS-16  (Russ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ned Satellites (MIR/SAREX/I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al Use:  FO Satellites (Japan)/AO-27 (F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 Satell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ily “Store and Forward” Bulletin Bo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Payloads (Cameras/Senso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0 bps PSK Mode (AO-16, LU-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600 bps DFM (UO-22,  KO-25, GO-32, SO-3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0 bps AFSK (UO-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.4k and 78.6k bps DFM (TO-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X Satell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-3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72880" y="311040"/>
            <a:ext cx="859824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8720" y="1447920"/>
            <a:ext cx="306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Trac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2819520"/>
            <a:ext cx="68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ellites are Moving Transpo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to Predict When the Satellite Will b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ge of your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enna Pointing/Doppler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tual Pass with Other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8760" y="311040"/>
            <a:ext cx="859788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67320" y="1249200"/>
            <a:ext cx="5147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286000"/>
            <a:ext cx="76964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verview of the Amateur Satellit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an Amateur Radio Satellite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king the Satell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ing the Easy S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s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72880" y="311040"/>
            <a:ext cx="859824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68960" y="1249200"/>
            <a:ext cx="3737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plerian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2133720"/>
            <a:ext cx="7467480" cy="43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ps” are the Variables Which Describe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ellite’s 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ps are Developed by NORAD/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SAT Provides Reformat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ps are Distributed World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et Bulletin Bo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BS (DRIG, NASA, AMSAT BBS’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Sites (www.amsat.o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c e-mail receipt 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ps@amsa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ations (AMSAT Journal, OS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72880" y="311040"/>
            <a:ext cx="859824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82640" y="53964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1219320"/>
            <a:ext cx="5867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cking Softw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905120"/>
            <a:ext cx="76197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racking Program Utilizes Keplerian Data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 the Position of a Satellite at An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enna aiming for azimuth and ele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ppler Shift Correction Based Upon Relati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locit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tellite to the 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Predictions of When a Ground St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be in View of a 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ariety of Tracking Programs ar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ware from AMSAT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, DOS and Macintosh available 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72880" y="311040"/>
            <a:ext cx="859824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07920" y="1249200"/>
            <a:ext cx="16786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O-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2133720"/>
            <a:ext cx="6858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M ‘Repeater’ 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link 145.850 MHz / Downlink 436.795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Orbit--2 to 3 workable passes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 in Daylight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ors can use 1-3 Watt HT with Yag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enna (such as the Arr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72880" y="311040"/>
            <a:ext cx="859824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36000" y="1249200"/>
            <a:ext cx="1622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-2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2209680"/>
            <a:ext cx="83059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s Digitalker, Mode JA Transponder, 1200/960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PS Packet 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 Digitalker Mode, Transmits on 435.91 MHz F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to Compensate for Dop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ker Transmits a Short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heard with HT with Stock Rubber Du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need to rotate rig/antenna for Best 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-29 Operating Schedule Available from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2880" y="311040"/>
            <a:ext cx="859824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76440" y="1249200"/>
            <a:ext cx="5738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urces of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209680"/>
            <a:ext cx="6858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d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BS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SAT Area Coordin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SAT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72880" y="311040"/>
            <a:ext cx="859824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1520" y="1249200"/>
            <a:ext cx="7611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Information Boo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1981080"/>
            <a:ext cx="82296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S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w to Use Amateur Radio Satelli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7th 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S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king the Easy Sats (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S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de S:  The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RRL Hand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RRL Radio Amateur’s Satellite Handboo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19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RRL Satellite Ant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0600" y="311040"/>
            <a:ext cx="859788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680" y="1523880"/>
            <a:ext cx="8342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oks for Specific Satellite Ty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2514600"/>
            <a:ext cx="746748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alog Satellites Operating Guide  (19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MSAT-NA Digital Satellite Gui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nclud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SP Install/Setup Instru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3G to P3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oding Telemetry from Amateur Satell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72880" y="311040"/>
            <a:ext cx="859824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1560" y="1295280"/>
            <a:ext cx="5273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2133720"/>
            <a:ext cx="716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SAT Journal  (Published Bimonthly, distributed to membersh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CAR Satellite Report  (Harlan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azines with Satellite Colum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Q/VHF Magaz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Q Magaz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3 Magaz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 Radi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72880" y="311040"/>
            <a:ext cx="859824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3240" y="1249200"/>
            <a:ext cx="7626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-Mail Resources from AMS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1981080"/>
            <a:ext cx="7772400" cy="45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SAT News Services (A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PS (Keplerian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SAT-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 is Sent  to Your Internet E-Mail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cribe by Sending Message to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domo@amsat.or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s Available on AMSAT web Si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www.amsat.org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72880" y="311040"/>
            <a:ext cx="859824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35960" y="1249200"/>
            <a:ext cx="2609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BS 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2057400"/>
            <a:ext cx="685800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ghteen Telephone Sites Nation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ellite Information Available on AOL/C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verage of Weather, non-AMSAT Satelli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Require Pre-registration to Gai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 of Sites Available from AM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2880" y="311040"/>
            <a:ext cx="859824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74320" y="1249200"/>
            <a:ext cx="4752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mateurs in Sp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2057400"/>
            <a:ext cx="68580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Amateur Satellite Launched Dec. 196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ellites carry a variety of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ellites are built by a variety of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ariety of organizations have buil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ateur satellites (AMSAT,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ities, Private Compan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72880" y="311040"/>
            <a:ext cx="859824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87480" y="1249200"/>
            <a:ext cx="6929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ld Wide Web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2133720"/>
            <a:ext cx="777240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amsat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tapr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s Available to Related Web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72880" y="311040"/>
            <a:ext cx="859824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92960" y="1249200"/>
            <a:ext cx="48927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Do I Get Help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2057400"/>
            <a:ext cx="76201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 Satellite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SAT Nets (HF and VHF)-Listing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SAT Field Organization (Area Coordinat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 (AMSAT-B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fest For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SAT Exhibits/Hamfest 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35080" y="311040"/>
            <a:ext cx="859788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523880"/>
            <a:ext cx="7875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MSAT Field Organ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2286000"/>
            <a:ext cx="6858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 Coordinators:  AMSAT’s Ambassa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0+ Volunteers in USA and 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% Use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Knowledge/Get 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Local Presentations/Hamfest 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 Coordinator List Avail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96920" y="311040"/>
            <a:ext cx="859788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04840" y="1249200"/>
            <a:ext cx="6675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Do I Go From He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1905120"/>
            <a:ext cx="6858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 the AMSAT Booth at Hamf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Area of Interest--Get Additio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ze the AMSAT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an AMSAT Area Coord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 a Club Satellite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Joining AMSAT &amp; Receiv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MSAT 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49200" y="387360"/>
            <a:ext cx="859788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82640" y="38736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37944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97840" y="1249200"/>
            <a:ext cx="5287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2057400"/>
            <a:ext cx="68580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SAT-North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.O. Box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hington, DC  20044-00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.  (301) 589-60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:  martha@amsa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SAT Local Area Coord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y D. Welch, W0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8 Dutch Mill D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lwin, MO 63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. (636) 391-53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:  w0sl@amsa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72880" y="311040"/>
            <a:ext cx="859824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6960" y="1249200"/>
            <a:ext cx="73202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an Amateur Satelli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ik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 Repe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2819520"/>
            <a:ext cx="6858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ransmits what it “hea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Optimized Receivers, Transmit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en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at Loc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Small Stations to Communic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 Greater Di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72880" y="311040"/>
            <a:ext cx="859824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85520" y="1249200"/>
            <a:ext cx="73202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an Amateur Satelli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nlik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 Repe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2590920"/>
            <a:ext cx="6858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a Moving Footprint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 Changes/Availability V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cy Alteration due to Doppler 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Du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link and Downlink on Different Band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mode (CW/SSB/Digi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 Wide”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49200" y="311040"/>
            <a:ext cx="859788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90400" y="1249200"/>
            <a:ext cx="59122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alog Satellites Utili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ponder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2666880"/>
            <a:ext cx="685800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ives a SEGMENT of One B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ransmits EVERYTHING It Hears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other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rting Transpond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st Incoming Frequency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ransmitted Over the Highes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going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rts Signal (LSB to US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00" y="311040"/>
            <a:ext cx="859788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50080" y="1249200"/>
            <a:ext cx="599472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gital Satellites Utili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ore &amp; Forward BB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2819520"/>
            <a:ext cx="685800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ives on one or more  fix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ies in one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ransmits on one fixed frequenc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different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Broadcast/Connected Protoco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Downlink/Up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 digipeating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72880" y="311040"/>
            <a:ext cx="859824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46040" y="1447920"/>
            <a:ext cx="61977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ailable Satellite B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2209680"/>
            <a:ext cx="6858000" cy="32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ds Exist from 10 Meters to 24 G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CM/Two Meters Often Are Uti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ous ‘Mode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ift Towards Higher Frequ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It or Lose I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72880" y="311040"/>
            <a:ext cx="8598240" cy="638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82640" y="463680"/>
            <a:ext cx="59310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55760"/>
            <a:ext cx="845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55760" y="1249200"/>
            <a:ext cx="43606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tellite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41560" y="2109960"/>
            <a:ext cx="482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981080"/>
            <a:ext cx="77724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itude Control (RCS, Torquing Coi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ral Computer (IHU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s (Command Rcvr, Ant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ac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ergy Supply (Batteries, Solar Panel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gineering Telemetry (Electroni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ors, Encod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6T20:35:56Z</dcterms:created>
  <dc:creator>Barry A. Baines</dc:creator>
  <dc:description/>
  <dc:language>en-US</dc:language>
  <cp:lastModifiedBy>Barry A. Baines</cp:lastModifiedBy>
  <cp:lastPrinted>1999-10-04T02:40:49Z</cp:lastPrinted>
  <dcterms:modified xsi:type="dcterms:W3CDTF">1999-10-04T03:06:47Z</dcterms:modified>
  <cp:revision>109</cp:revision>
  <dc:subject/>
  <dc:title>No Slide Title</dc:title>
</cp:coreProperties>
</file>